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PROJCTOR.WAV" ContentType="audio/x-wav"/>
  <Override PartName="/ppt/media/zapbig0g.wav" ContentType="audio/x-wav"/>
  <Override PartName="/ppt/media/children%20wow.wav" ContentType="audio/x-wav"/>
  <Override PartName="/ppt/media/CAMERA.WAV" ContentType="audio/x-wav"/>
  <Override PartName="/ppt/media/EXPLODE.WAV" ContentType="audio/x-wav"/>
  <Override PartName="/ppt/media/CASHREG.WAV" ContentType="audio/x-wav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CEE-5E27-4747-ADEB-5B2ED970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480-8197-4D4D-B8DE-86F4706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C2B-9158-4C88-8155-057E1126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427-7C4D-4F04-86D9-D797FEC0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AAB-FC7F-49C8-8934-7F0063A7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D02-EB9E-4D93-B24F-C175B7BE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658-CD9B-4B5A-BF91-11D630D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2A4-6E5A-48D7-96DC-3A39507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171-F588-4168-873A-AB4785B8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879-0CEB-4367-A1D0-302C9B5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BFE-C6EB-4758-A366-5EBCE144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2D8-9ACD-4770-B70E-B189119F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50F1-C9C3-4B09-9419-11434928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PROJCTOR.WAV"/><Relationship Id="rId3" Type="http://schemas.openxmlformats.org/officeDocument/2006/relationships/audio" Target="../media/children%20wow.wav"/><Relationship Id="rId4" Type="http://schemas.openxmlformats.org/officeDocument/2006/relationships/audio" Target="../media/children%20wow.wav"/><Relationship Id="rId5" Type="http://schemas.openxmlformats.org/officeDocument/2006/relationships/audio" Target="../media/CAMERA.WAV"/><Relationship Id="rId6" Type="http://schemas.openxmlformats.org/officeDocument/2006/relationships/audio" Target="../media/bserie06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CAMERA.WAV"/><Relationship Id="rId10" Type="http://schemas.openxmlformats.org/officeDocument/2006/relationships/audio" Target="../media/bserie06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bserie06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bserie06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CAMERA.WAV"/><Relationship Id="rId30" Type="http://schemas.openxmlformats.org/officeDocument/2006/relationships/audio" Target="../media/bserie06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CAMERA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CAMERA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combining two numbers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371600"/>
          <a:ext cx="8763120" cy="99072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4343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 SIG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A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THE SIGN OF THE LARGER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80880" y="2286000"/>
          <a:ext cx="8763120" cy="990720"/>
        </p:xfrm>
        <a:graphic>
          <a:graphicData uri="http://schemas.openxmlformats.org/drawingml/2006/table">
            <a:tbl>
              <a:tblPr/>
              <a:tblGrid>
                <a:gridCol w="2246400"/>
                <a:gridCol w="2173320"/>
                <a:gridCol w="4343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ERENT SIG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THE SIGN OF THE LARGER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-203040" y="1652760"/>
            <a:ext cx="7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12760" y="251604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87200" y="3386160"/>
                <a:ext cx="2754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54160" y="3341520"/>
                <a:ext cx="1546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51440" y="3341520"/>
                <a:ext cx="2636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623000" y="3333600"/>
                <a:ext cx="1521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360600" y="3519360"/>
                <a:ext cx="48924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 txBox="1"/>
          <p:nvPr/>
        </p:nvSpPr>
        <p:spPr>
          <a:xfrm>
            <a:off x="1384200" y="3949560"/>
            <a:ext cx="1163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ADD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070840" y="3457440"/>
                <a:ext cx="488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 txBox="1"/>
          <p:nvPr/>
        </p:nvSpPr>
        <p:spPr>
          <a:xfrm>
            <a:off x="4794120" y="3944880"/>
            <a:ext cx="29433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1360" y="4433760"/>
                <a:ext cx="30481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257640" y="4471920"/>
                <a:ext cx="1139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689280" y="4643280"/>
                <a:ext cx="488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 txBox="1"/>
          <p:nvPr/>
        </p:nvSpPr>
        <p:spPr>
          <a:xfrm>
            <a:off x="336600" y="5154480"/>
            <a:ext cx="2943000" cy="4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541760" y="4457880"/>
                <a:ext cx="3230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97800" y="4475160"/>
                <a:ext cx="154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050320" y="4638600"/>
                <a:ext cx="488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 txBox="1"/>
          <p:nvPr/>
        </p:nvSpPr>
        <p:spPr>
          <a:xfrm>
            <a:off x="5011560" y="5135400"/>
            <a:ext cx="2943360" cy="4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788080"/>
                <a:ext cx="3121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82960" y="5805360"/>
                <a:ext cx="1585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433680" y="5827680"/>
                <a:ext cx="530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 txBox="1"/>
          <p:nvPr/>
        </p:nvSpPr>
        <p:spPr>
          <a:xfrm>
            <a:off x="1225440" y="6362640"/>
            <a:ext cx="1163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ADD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18160" y="5807160"/>
                <a:ext cx="2863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8200" y="5805360"/>
                <a:ext cx="1585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008920" y="5827680"/>
                <a:ext cx="530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 txBox="1"/>
          <p:nvPr/>
        </p:nvSpPr>
        <p:spPr>
          <a:xfrm>
            <a:off x="5135400" y="6377040"/>
            <a:ext cx="29433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p:sp>
        <p:nvSpPr>
          <p:cNvPr id="71" name=""/>
          <p:cNvSpPr/>
          <p:nvPr/>
        </p:nvSpPr>
        <p:spPr>
          <a:xfrm>
            <a:off x="1574640" y="440064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6160" y="43941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4400" y="57675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5560" y="576108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704880"/>
            <a:ext cx="9144000" cy="976320"/>
            <a:chOff x="0" y="704880"/>
            <a:chExt cx="9144000" cy="976320"/>
          </a:xfrm>
        </p:grpSpPr>
        <p:sp>
          <p:nvSpPr>
            <p:cNvPr id="77" name=""/>
            <p:cNvSpPr/>
            <p:nvPr/>
          </p:nvSpPr>
          <p:spPr>
            <a:xfrm>
              <a:off x="0" y="7048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Multiplying Negative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11620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1157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1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4080" y="3086280"/>
                <a:ext cx="2876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36520" y="3841920"/>
                <a:ext cx="5889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97080" y="3081240"/>
                <a:ext cx="2538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457880" y="3784680"/>
                <a:ext cx="795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927760" y="3106800"/>
                <a:ext cx="27781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993000" y="4010040"/>
                <a:ext cx="5144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4520" y="4475160"/>
                <a:ext cx="4273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479680" y="5162400"/>
                <a:ext cx="479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60760" y="4505400"/>
                <a:ext cx="4432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5320" y="5495760"/>
                <a:ext cx="5238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87320" y="5816520"/>
                <a:ext cx="3802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0080" y="6107040"/>
                <a:ext cx="1060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52760" y="3844800"/>
                <a:ext cx="790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440480" y="3813120"/>
                <a:ext cx="8161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45480" y="5268960"/>
                <a:ext cx="828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87840" y="5956200"/>
                <a:ext cx="804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68640" y="3965400"/>
                <a:ext cx="5446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41480" y="5175360"/>
                <a:ext cx="5889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762120"/>
            <a:ext cx="9144000" cy="976320"/>
            <a:chOff x="152280" y="762120"/>
            <a:chExt cx="9144000" cy="976320"/>
          </a:xfrm>
        </p:grpSpPr>
        <p:sp>
          <p:nvSpPr>
            <p:cNvPr id="101" name=""/>
            <p:cNvSpPr/>
            <p:nvPr/>
          </p:nvSpPr>
          <p:spPr>
            <a:xfrm>
              <a:off x="152280" y="76212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Dividing Negative Numbers. 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as Multiplyin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121932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5228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05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2840040"/>
                <a:ext cx="2857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36800" y="3043080"/>
                <a:ext cx="1017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448160" y="2870280"/>
                <a:ext cx="3408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791480" y="3003480"/>
                <a:ext cx="9208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81440" y="2890800"/>
                <a:ext cx="449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739360" y="2944800"/>
                <a:ext cx="404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3924360"/>
                <a:ext cx="2678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÷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28800" y="4062240"/>
                <a:ext cx="9208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79920" y="3925800"/>
                <a:ext cx="3682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475160" y="3922560"/>
                <a:ext cx="2295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91400" y="3956040"/>
                <a:ext cx="9205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824960" y="3911760"/>
                <a:ext cx="404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0" y="4971960"/>
                <a:ext cx="20430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036880" y="5576760"/>
                <a:ext cx="1017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22680" y="4952880"/>
                <a:ext cx="21099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610320" y="5472000"/>
                <a:ext cx="924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9280" y="5460840"/>
                <a:ext cx="647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0280" y="5456160"/>
                <a:ext cx="406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.skelton</cp:lastModifiedBy>
  <dcterms:modified xsi:type="dcterms:W3CDTF">2004-12-07T13:46:01Z</dcterms:modified>
  <cp:revision>16</cp:revision>
  <dc:subject/>
  <dc:title>No Slide Title</dc:title>
</cp:coreProperties>
</file>